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jpeg" ContentType="image/jpeg"/>
  <Override PartName="/ppt/media/image9.png" ContentType="image/png"/>
  <Override PartName="/ppt/media/image6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10.png" ContentType="image/png"/>
  <Override PartName="/ppt/media/image4.jpeg" ContentType="image/jpeg"/>
  <Override PartName="/ppt/media/image13.gif" ContentType="image/gif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FF68-BC28-454B-AFFB-468E62E018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DDAB-476E-4C2C-8125-0569B735B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090A-5414-4416-A927-A1752A55C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1883-7955-4A5B-981F-0B5586F88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8F82-B64B-4A92-AEFA-ABB3AC8E7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49ED-3CD8-4357-9477-3B593B5FA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E169-531E-4A8B-B7B7-00F826F79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138F-BBA1-4235-BCF3-C6D4D7951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5203-B76E-4A07-BD01-1140DC359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7E6F-6194-419F-9B01-BA50478F1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7C4D-911E-441C-A504-B2229A579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DEA-68A6-429E-AEEA-C5C28FB0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642-461E-4D36-B319-75305216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AB1-2175-4ADB-8FD5-C9F17539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5C7-8EF3-4680-B9C9-FD3C74AB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F532-6CBA-4E8F-9186-677962CC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27DF-9F63-4787-A1C0-81EF00C9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9B7D-434A-4AAE-8E78-825FE6CF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9BA0-7858-41D1-AC29-76F0C3D2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8F75-E50A-4A57-BD01-6A8956BA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F833-5E78-4C1A-BA0C-319D9FEB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A666-FA19-49C9-BE8C-AE05DC1F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38B-0D6C-4AED-9547-64FA2CAA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E43A-5393-42E5-B26E-93DD0692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4E25-C8DC-4F08-A1B7-7A6863C2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6252-6321-442D-B58F-99F3350B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1D3B-CE14-4DAA-AE0D-35A847B9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C4FC-21A0-41B9-9856-35203408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47A-38D5-4209-9113-C92EBBF5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417-D852-4887-B255-5E0D0196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C92-449D-4F33-976D-6679E6EF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5BB-7398-4721-81BF-2EA92648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D4F-1F63-4468-ABCF-8854064F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60B-8DCA-41E1-AD4A-52E7C760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C02-F943-45EA-ABAF-827249D6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7BD1-44F0-45C9-8E15-61294DD70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E219-01A6-405A-B096-96FB75BF4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4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layer.myshared.ru/801318/data/images/img22.jpg" TargetMode="External"/><Relationship Id="rId3" Type="http://schemas.openxmlformats.org/officeDocument/2006/relationships/hyperlink" Target="http://player.myshared.ru/171040/data/images/img10.jpg" TargetMode="External"/><Relationship Id="rId4" Type="http://schemas.openxmlformats.org/officeDocument/2006/relationships/hyperlink" Target="http://www.u-f.ru/sites/default/files/imagecache/750x450/news/31_avg_2014_-_2033/putin.jpg" TargetMode="External"/><Relationship Id="rId5" Type="http://schemas.openxmlformats.org/officeDocument/2006/relationships/hyperlink" Target="https://yandex.ru/images/search?cbir_id=e8wc2LvUj7Qqt-NJ0LdTrw&amp;rpt=imageview" TargetMode="External"/><Relationship Id="rId6" Type="http://schemas.openxmlformats.org/officeDocument/2006/relationships/hyperlink" Target="https://yandex.ru/images/search?cbir_id=e8wc2LvUj7Qqt-NJ0LdTrw&amp;rpt=imageview" TargetMode="External"/><Relationship Id="rId7" Type="http://schemas.openxmlformats.org/officeDocument/2006/relationships/hyperlink" Target="https://yandex.ru/images/search?cbir_id=e8wc2LvUj7Qqt-NJ0LdTrw&amp;rpt=imageview" TargetMode="External"/><Relationship Id="rId8" Type="http://schemas.openxmlformats.org/officeDocument/2006/relationships/hyperlink" Target="https://yandex.ru/images/search?cbir_id=e8wc2LvUj7Qqt-NJ0LdTrw&amp;rpt=imageview" TargetMode="External"/><Relationship Id="rId9" Type="http://schemas.openxmlformats.org/officeDocument/2006/relationships/hyperlink" Target="http://player.myshared.ru/986546/data/images/img40.jpg" TargetMode="External"/><Relationship Id="rId10" Type="http://schemas.openxmlformats.org/officeDocument/2006/relationships/hyperlink" Target="http://900igr.net/datai/obschestvoznanie/Istorija-gosudarstvennykh-simvolov-Rossii/0022-045-Gimn-Rossii.jpg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596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одуль «Основы светской э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244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м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РОССИЯ – РОДИНА МО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001880" y="4500720"/>
            <a:ext cx="8769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начальных классов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Аносинская СОШ им. Г.И.Гуркина»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машева Юлия Андреевна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публика Ал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6" descr=""/>
          <p:cNvPicPr/>
          <p:nvPr/>
        </p:nvPicPr>
        <p:blipFill>
          <a:blip r:embed="rId2"/>
          <a:stretch/>
        </p:blipFill>
        <p:spPr>
          <a:xfrm>
            <a:off x="311040" y="2273400"/>
            <a:ext cx="4334040" cy="315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Объект 9" descr=""/>
          <p:cNvPicPr/>
          <p:nvPr/>
        </p:nvPicPr>
        <p:blipFill>
          <a:blip r:embed="rId3"/>
          <a:stretch/>
        </p:blipFill>
        <p:spPr>
          <a:xfrm>
            <a:off x="4413240" y="3084480"/>
            <a:ext cx="42973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D:\Фотки\Fotki\ийт-кая\P1010067.JPG"/>
          <p:cNvPicPr/>
          <p:nvPr/>
        </p:nvPicPr>
        <p:blipFill>
          <a:blip r:embed="rId2"/>
          <a:stretch/>
        </p:blipFill>
        <p:spPr>
          <a:xfrm>
            <a:off x="795240" y="228600"/>
            <a:ext cx="80028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АМОСТОЯТЕЛЬНАЯ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000" y="11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оставьте и запишите в тетрадь предложения со словами Россия, отечество, патриот, презид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440" y="1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одолж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казываетс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07880" y="1755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од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Я узнал, что у меня есть огромная ст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 тропинка, и  лесок, в поле каждый колос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ечка, небо голубое - это всё моё родно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то Родина моя, всех люблю на свете 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.Ор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2" descr="B_Fly31"/>
          <p:cNvPicPr/>
          <p:nvPr/>
        </p:nvPicPr>
        <p:blipFill>
          <a:blip r:embed="rId2"/>
          <a:stretch/>
        </p:blipFill>
        <p:spPr>
          <a:xfrm rot="7628400">
            <a:off x="2080800" y="574560"/>
            <a:ext cx="1143000" cy="1054080"/>
          </a:xfrm>
          <a:prstGeom prst="rect">
            <a:avLst/>
          </a:prstGeom>
          <a:ln w="0">
            <a:noFill/>
          </a:ln>
        </p:spPr>
      </p:pic>
      <p:sp>
        <p:nvSpPr>
          <p:cNvPr id="124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 rot="551400">
            <a:off x="428436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b2bb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 rot="551400">
            <a:off x="336600" y="26172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b2bbe4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b2bb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efebf7"/>
              </a:gs>
            </a:gsLst>
            <a:lin ang="4848000"/>
          </a:gradFill>
          <a:ln w="9360">
            <a:solidFill>
              <a:srgbClr val="b2bb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 rot="551400">
            <a:off x="3404880" y="871200"/>
            <a:ext cx="1347840" cy="901800"/>
          </a:xfrm>
          <a:prstGeom prst="cloudCallout">
            <a:avLst>
              <a:gd name="adj1" fmla="val 181495"/>
              <a:gd name="adj2" fmla="val -68092"/>
            </a:avLst>
          </a:prstGeom>
          <a:gradFill rotWithShape="0">
            <a:gsLst>
              <a:gs pos="0">
                <a:srgbClr val="6e74ee"/>
              </a:gs>
              <a:gs pos="100000">
                <a:srgbClr val="efebf7"/>
              </a:gs>
            </a:gsLst>
            <a:lin ang="4848000"/>
          </a:gradFill>
          <a:ln w="9360">
            <a:solidFill>
              <a:srgbClr val="b2bb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Picture 24" descr="B_Fly14"/>
          <p:cNvPicPr/>
          <p:nvPr/>
        </p:nvPicPr>
        <p:blipFill>
          <a:blip r:embed="rId3"/>
          <a:stretch/>
        </p:blipFill>
        <p:spPr>
          <a:xfrm>
            <a:off x="641520" y="396720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b13"/>
          <p:cNvPicPr/>
          <p:nvPr/>
        </p:nvPicPr>
        <p:blipFill>
          <a:blip r:embed="rId4"/>
          <a:stretch/>
        </p:blipFill>
        <p:spPr>
          <a:xfrm>
            <a:off x="7677000" y="534672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arg-blue-left-tr"/>
          <p:cNvPicPr/>
          <p:nvPr/>
        </p:nvPicPr>
        <p:blipFill>
          <a:blip r:embed="rId5"/>
          <a:stretch/>
        </p:blipFill>
        <p:spPr>
          <a:xfrm>
            <a:off x="5164200" y="96372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B_Fly21"/>
          <p:cNvPicPr/>
          <p:nvPr/>
        </p:nvPicPr>
        <p:blipFill>
          <a:blip r:embed="rId6"/>
          <a:stretch/>
        </p:blipFill>
        <p:spPr>
          <a:xfrm rot="13640400">
            <a:off x="7679160" y="354204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b11"/>
          <p:cNvPicPr/>
          <p:nvPr/>
        </p:nvPicPr>
        <p:blipFill>
          <a:blip r:embed="rId7"/>
          <a:stretch/>
        </p:blipFill>
        <p:spPr>
          <a:xfrm>
            <a:off x="6334200" y="542448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b13"/>
          <p:cNvPicPr/>
          <p:nvPr/>
        </p:nvPicPr>
        <p:blipFill>
          <a:blip r:embed="rId8"/>
          <a:stretch/>
        </p:blipFill>
        <p:spPr>
          <a:xfrm>
            <a:off x="4890960" y="533232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b11"/>
          <p:cNvPicPr/>
          <p:nvPr/>
        </p:nvPicPr>
        <p:blipFill>
          <a:blip r:embed="rId9"/>
          <a:stretch/>
        </p:blipFill>
        <p:spPr>
          <a:xfrm>
            <a:off x="3438360" y="558648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19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Т. Студеникин «Основы духовно-нравственной культуры народов России. Основы светской этики. 4 класс» - М.: «Русское слово»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0560" y="22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63480" y="134748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2"/>
              </a:rPr>
              <a:t>http://player.myshared.ru/801318/data/images/img2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3"/>
              </a:rPr>
              <a:t>http://player.myshared.ru/171040/data/images/img1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4"/>
              </a:rPr>
              <a:t>http://www.u-f.ru/sites/default/files/imagecache/750x450/news/31_avg_2014_-_2033/put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5"/>
              </a:rPr>
              <a:t>https://</a:t>
            </a: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6"/>
              </a:rPr>
              <a:t>yandex.ru/images/search?cbir_id</a:t>
            </a: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7"/>
              </a:rPr>
              <a:t>=e8wc2LvUj7Qqt-NJ0LdTrw&amp;rpt=</a:t>
            </a: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8"/>
              </a:rPr>
              <a:t>imag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9"/>
              </a:rPr>
              <a:t>http://player.myshared.ru/986546/data/images/img4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10"/>
              </a:rPr>
              <a:t>http://900igr.net/datai/obschestvoznanie/Istorija-gosudarstvennykh-simvolov-Rossii/0022-045-Gimn-Rossii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idoska-barnaul.ru/images/2015/05/18/1458/14319779011079428596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img1.liveinternet.ru/images/attach/c/3/76/541/76541863_large_urochische_medvezhiy_ugo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ttps://yandex.ru/images/search?cbir_id=JDcAWQHqSkCpHPG7Opjjpw&amp;rpt=imag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ttps://yandex.ru/images/search?cbir_id=j_0ObqIGd3YUv82Xd0gdYg&amp;rpt=imag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-ресур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2822-4-f[1].jpg"/>
          <p:cNvPicPr/>
          <p:nvPr/>
        </p:nvPicPr>
        <p:blipFill>
          <a:blip r:embed="rId2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360" y="3938760"/>
            <a:ext cx="90313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лава нашего государства –презид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утин Владимир Владими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2"/>
          <a:stretch/>
        </p:blipFill>
        <p:spPr>
          <a:xfrm>
            <a:off x="2548080" y="411120"/>
            <a:ext cx="46544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мволы государственной в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осударственный ф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осударственный гер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осударственный гим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s_anim"/>
          <p:cNvPicPr/>
          <p:nvPr/>
        </p:nvPicPr>
        <p:blipFill>
          <a:blip r:embed="rId2"/>
          <a:stretch/>
        </p:blipFill>
        <p:spPr>
          <a:xfrm rot="20596200">
            <a:off x="6311880" y="901800"/>
            <a:ext cx="2502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Государственный ге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мблема государства, изображаемая на печатях, флагах, государственных официальных документах, денежных зна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фоне щита красного цвета изображен золотой двуглавый ор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Рисунок16"/>
          <p:cNvPicPr/>
          <p:nvPr/>
        </p:nvPicPr>
        <p:blipFill>
          <a:blip r:embed="rId2"/>
          <a:stretch/>
        </p:blipFill>
        <p:spPr>
          <a:xfrm>
            <a:off x="5376960" y="2025720"/>
            <a:ext cx="3384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rus_anim"/>
          <p:cNvPicPr/>
          <p:nvPr/>
        </p:nvPicPr>
        <p:blipFill>
          <a:blip r:embed="rId2"/>
          <a:stretch/>
        </p:blipFill>
        <p:spPr>
          <a:xfrm rot="20596200">
            <a:off x="487080" y="1733400"/>
            <a:ext cx="3998880" cy="288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5592600" y="2362320"/>
            <a:ext cx="278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045040" y="1920960"/>
            <a:ext cx="358128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БЕЛЫЙ ЦВЕТ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мир и чистота совести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ИНИЙ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небо, верность, правда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РАСНЫЙ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огонь, отвага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0"/>
          <p:cNvPicPr/>
          <p:nvPr/>
        </p:nvPicPr>
        <p:blipFill>
          <a:blip r:embed="rId2"/>
          <a:stretch/>
        </p:blipFill>
        <p:spPr>
          <a:xfrm>
            <a:off x="4792680" y="647640"/>
            <a:ext cx="4078440" cy="5904000"/>
          </a:xfrm>
          <a:prstGeom prst="rect">
            <a:avLst/>
          </a:prstGeom>
          <a:ln w="50760">
            <a:solidFill>
              <a:srgbClr val="000066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</p:pic>
      <p:sp>
        <p:nvSpPr>
          <p:cNvPr id="108" name=""/>
          <p:cNvSpPr txBox="1"/>
          <p:nvPr/>
        </p:nvSpPr>
        <p:spPr>
          <a:xfrm>
            <a:off x="482760" y="17654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оржественное музыкальное произведение, принятое как символ государственного еди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РОД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096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лк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1.Отечество, родная стр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2.Место рождения, происхождения кого-, чего-нибу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Этим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бщеславянское слово, образовано от слова «род» - происхождение, семья, «родиться», место рождения, старо-славянского слова родити. Россия впервые у Ивана Грозного. Раньше – Русь, откуда Русия. Отчизна, Отечество (с Держави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одственные слова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Родной, родимая (сторона),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инонимы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Отечество, Отчизна, родная страна, мать-зем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Фразеологизм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Откуда есть пошла земля русская. Эмоционально-приподнятая фраза при повествовании об истории России. (Из «Повести временных лет» XII 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47:18Z</dcterms:created>
  <dc:creator>Admin</dc:creator>
  <dc:description/>
  <dc:language>en-US</dc:language>
  <cp:lastModifiedBy>User</cp:lastModifiedBy>
  <dcterms:modified xsi:type="dcterms:W3CDTF">2015-09-03T15:38:21Z</dcterms:modified>
  <cp:revision>29</cp:revision>
  <dc:subject/>
  <dc:title>Модуль « Светская этика»</dc:title>
</cp:coreProperties>
</file>